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9007-6484-4011-AC17-EB1095E712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7545-11D3-4C34-8651-68386A4DAD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829A-6A0B-43EF-A773-4654EDD6BD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16D-26D3-468E-839F-FBE70200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F6AD-4675-4320-A537-E15A27E6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72D-EE33-4F0B-9171-363AB38C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6D7E-F571-4ED8-BA44-F44E6A46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3609-3C37-4B28-8D2C-01C91B40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C390-ACD1-4D98-8C42-4AE31043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77BB-954F-4371-B1F0-67133101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64A9-D465-4EDA-85F8-4B06E05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FB8C-1C5F-422E-9826-871A5B2A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98A6-8E6F-4BDA-A9E2-8B4BEB41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086F-D938-4CD8-95B8-1CE47914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341-E501-434A-83EA-7EF66ED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8ED1-4DBD-45D0-846D-49471F7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DB23-6F66-4FB7-8B33-C05849E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A01E-282E-45B7-A8E0-7929D8E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E2F1-8309-477A-B3D9-46F22436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1601-47E1-46E5-9DCD-889F35E9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3E8-6704-4760-BF45-AE237C1C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496-6E9F-419D-8CCC-F8C36E21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0FEF-8CF1-476A-917C-E9CCE3C9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021-7988-47D6-877A-E38586D8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8D0A-5367-4F86-95B9-40987484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BE54-6805-46CF-B22C-C37F67C7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F82-0F06-4375-A3F5-5FB2055F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1154-BD09-4C33-9F9E-85FD21940F7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BFD6-B012-4E2D-8DAE-6A144F0F4569}" type="slidenum">
              <a:rPr b="0" lang="fa-I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rounded Theo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2960"/>
            <a:ext cx="640080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Zar"/>
              </a:rPr>
              <a:t>توسعه تاريخي گرانددتئوري در پرستا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1970-1960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دهه اكتشاف( يك روش تحقيق عمده  در      جامعه شنا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1980-1970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دهه توسعه( ارائه سمينارهايي براي  توسعه رو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1990-1980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دهه انتشار( توسعه روش استفاده از ان در تحقيقات پرستار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1990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به بعد ( انتشار وسيع دانش بدست آمده از اين طريق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Zar"/>
              </a:rPr>
              <a:t>ريشه گراندد تئور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ريشه در تعامل گرايي سمبوليك د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مردم براساس تفاسير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Zar"/>
              </a:rPr>
              <a:t> سمبولهاي خاص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Zar"/>
              </a:rPr>
              <a:t> رفتار و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با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يكديگر تعامل مي كن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در تعامل نمادين به ويژگيهاي خاص تعاملات انساني توجه مي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ش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انسانها بجاي صرفاً واكنش به اعمال يكديگر،اعمال يكديگر را تعريف و تفسير مي كنن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بجاي محرك –پاسخ،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Zar"/>
              </a:rPr>
              <a:t>محرك-تفسير- پاس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84358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interactionism is one of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interpretivist perspectives in re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, is the theory and approach for the study of individuals' social and psychological action/interaction 'in search of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portraying and understanding the process of meaning making' </a:t>
            </a:r>
            <a:r>
              <a:rPr b="0" lang="fa-IR" sz="32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of this tradition is to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understand 'the complex world of lived experience from the point of view of those who live it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history and nature of symbolic interactio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643040"/>
            <a:ext cx="8697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oundations of symbolic interactionism were laid in early 1900s by George Herbert Mead, a social psychologist, who was influenced by American pragmatism, in particular the views of John Dew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agmatists maintain that human beings go through a continual process of adaptation in the constantly changing soci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interactionism was advanced by another sociologist from the University of Chicago, Herbert Blumer, who works and to further establish symbolic interactionism as a research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been generally said that while Mead's contribution was primarily philosophical, Blumer was more concerned with symbolic interaction as a sociological theory and a research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419120"/>
            <a:ext cx="829152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symbolic interactionists,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'meaning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one of the major elements in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derstanding human behaviour, interactions and social process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laim that to reach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a full understan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 social process, the inquirer needs to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'grasp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meanings that are experienced by the participants within a particular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regard, symbolic interactionists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ave much in common with phenomenologists, in their emphasis on the individual's lived experienc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inner world of human behaviour, the notion of meaning perceived by the participant, and understanding a situation from the participant's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404280"/>
            <a:ext cx="8135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 and the world cannot be understood in isolation because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'self'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eing continually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developed through interaction with other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the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'self' is a product of social inter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eveloped and refined through an on-going process of participation in soc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explains the nature of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'self'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constantly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hanging rather than fixed in one form or stat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21844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Mead's point of view,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'self' consists of the subjective 'I'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s natural or spontaneous and not hampered by othe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'me' that sees 'self' as a reflection of what others see, and what one sees when looking back at one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'I'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'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stantly communic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each other, i.e. through inner conversa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human beings to develop the sense of 'social self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00000"/>
                </a:solidFill>
                <a:latin typeface="Arial"/>
                <a:cs typeface="Zar"/>
              </a:rPr>
              <a:t>چهار ويژگي تعامل نمادي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وجه تمايز انسان از ساير موجودات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ارتباط وسيع آنان از طريق نمادهاست. از طريق نمادها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تفاسير اعمال و تعاملات معني پيدا مي ك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مشاركت فعال افراد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در عرصه اجتماعي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شكل گيري مفهوم خ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تعاملات همواره مركب و در ارتباط با اعمال و پاسخهاي متقاب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مرتبط با تجارب زندگ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به آنچه كه واقعا در تعاملات رخ م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Zar"/>
              </a:rPr>
              <a:t>دهد توجه دار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it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Mitra"/>
                <a:cs typeface="Zar"/>
              </a:rPr>
              <a:t>گراندد تئوري يك روش تحقيق كيفي است كه براي بررسي فرايندهاي اجتماعي موجود در تعاملات انساني بكار مي</a:t>
            </a:r>
            <a:r>
              <a:rPr b="1" lang="fa-IR" sz="3200" spc="-1" strike="noStrike">
                <a:solidFill>
                  <a:srgbClr val="000000"/>
                </a:solidFill>
                <a:latin typeface="Mitra"/>
                <a:ea typeface="Zar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Mitra"/>
                <a:cs typeface="Zar"/>
              </a:rPr>
              <a:t>رو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گراندد تئوري روشي فرآيند محور است كه امكان بررسي و تغيير يك پديده در طول زمان و توصيف مراحل مختلف آن را مي دهد. در اين گروه از تحقيقات، هدف تنها معني دار نمودن اطلاعات كيفي نيست، بلكه هدف تعيين ارتباط بين طبقات مفهومي و شرايطي است كه تحت آن شرايط، ارتباطات تئوريك بدست آمده، تغيير كرده و يا برقرار مي شود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دو روش تحقيق در گراندد تئوری وجود دارد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 روش ساختارگر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v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وش عينيت گر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821844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ر روش ساختارگرايي الويت به پديده مورد مطالعه داده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 م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داده ها و تحلیل آن حاصل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تجربيات مشترک بين محقق و مشارکت کنندگان و ارتباطات بين آن د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س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ر این روش داده ها از طریق </a:t>
            </a:r>
            <a:r>
              <a:rPr b="1" i="1" lang="ar-SA" sz="2800" spc="-1" strike="noStrike">
                <a:solidFill>
                  <a:srgbClr val="000000"/>
                </a:solidFill>
                <a:latin typeface="Arial"/>
              </a:rPr>
              <a:t>تعامل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مداوم بین مشاهده گر و مشاهده شونده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دست آمده، و هدف آگاهی از نحوه ساخت مفاهیم توسط افراد و عملکرد بر آن اساس می باش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تحلیل اطلاعات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عنوان يک سازه، نه تنها اطلاعات را در زمان، مکان، فرهنگ، و زمینه قرار م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هد، بلکه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منعکس کننده تفکر محقق نيز اس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حققان این روش معتقدند داده ها به تنهایی منعکس کننده واقعیات نیستند، بلکه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حقیقت از طریق فرآیند تعاملی بدست آمده و کاملاٌ موقتی، و وابسته به فرهنگ و زمینه های ساختاری می باشد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بیننده بعنوان بخشی از واحد مورد مشاهد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وده، و از آن جدا نیست. آنچه را که او می بیند در شکل گیری نحوه تعاریف، اندازه گیریها و تحلیل داده ها موثر خواهد ب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ر ساختار گرایی، محقق در </a:t>
            </a:r>
            <a:r>
              <a:rPr b="0" lang="ar-SA" sz="3200" spc="-1" strike="noStrike">
                <a:solidFill>
                  <a:srgbClr val="cc3300"/>
                </a:solidFill>
                <a:latin typeface="Arial"/>
              </a:rPr>
              <a:t>جستجو و درک معانی از دیدگاه توام مشارکت کنندگان و محققان در تحقیق بود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و معتقدند برای درک بهتر مفاهیم، باید فراتر از معانی سطحی حرکت کرده و دیدگاهها و ارزشها همراه با عوامل و حقایق بیان شده بررسی شو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3628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در روش عينيت گرا، به </a:t>
            </a:r>
            <a:r>
              <a:rPr b="1" i="1" lang="ar-SA" sz="3200" spc="-1" strike="noStrike">
                <a:solidFill>
                  <a:srgbClr val="cc3300"/>
                </a:solidFill>
                <a:latin typeface="Arial"/>
              </a:rPr>
              <a:t>داده ها بعنوان مفاهيم حقيقی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موجود در دنيا و در افراد نگاه مي شو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در اين ديدگاه مفاهیم پنداشتی از داده ها حاصل شده و بین </a:t>
            </a:r>
            <a:r>
              <a:rPr b="1" i="1" lang="ar-SA" sz="3200" spc="-1" strike="noStrike">
                <a:solidFill>
                  <a:srgbClr val="cc3300"/>
                </a:solidFill>
                <a:latin typeface="Arial"/>
              </a:rPr>
              <a:t>مشاهده گر و مورد مشاهده فاصله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وجود دارد. </a:t>
            </a:r>
            <a:r>
              <a:rPr b="1" i="1" lang="ar-SA" sz="3200" spc="-1" strike="noStrike">
                <a:solidFill>
                  <a:srgbClr val="cc3300"/>
                </a:solidFill>
                <a:latin typeface="Arial"/>
              </a:rPr>
              <a:t>مفاهيم در داده ها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موجود بوده و گراندد تئوريست ها آن </a:t>
            </a:r>
            <a:r>
              <a:rPr b="1" i="1" lang="ar-SA" sz="3200" spc="-1" strike="noStrike">
                <a:solidFill>
                  <a:srgbClr val="cc3300"/>
                </a:solidFill>
                <a:latin typeface="Arial"/>
              </a:rPr>
              <a:t>را کشف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می نماین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محققان استفاده کننده از این روش معتقدند </a:t>
            </a:r>
            <a:r>
              <a:rPr b="1" i="1" lang="ar-SA" sz="3200" spc="-1" strike="noStrike">
                <a:solidFill>
                  <a:srgbClr val="cc3300"/>
                </a:solidFill>
                <a:latin typeface="Arial"/>
              </a:rPr>
              <a:t>واقعيت خارجی منتظر کشف بوده و مشاهده بدون تورش، موجب ثبت حقايق شده</a:t>
            </a:r>
            <a:r>
              <a:rPr b="1" i="1" lang="ar-SA" sz="3200" spc="-1" strike="noStrike">
                <a:solidFill>
                  <a:srgbClr val="000000"/>
                </a:solidFill>
                <a:latin typeface="Arial"/>
              </a:rPr>
              <a:t> و با بکارگيری دقيق روشها، درک تئوريکی درستی از واقعيت ها بدست می آي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21844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ر این رویکرد از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مجموعه سیستماتیک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ز روشهای جمع آوری داد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ا استفاده شده، که منجر به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کشف واقعیات و ساخت تئوری قابل امتحان و پیشگویی می گرد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گراندد تئوری عینیت گرا،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مبتنی بر فرضیه های مثبت گرایانه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بوده و بر همین اساس می توان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دنیای خارج را توصیف، توضیح، تحلیل و پیشگویی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نمو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ئوری که با این روش ساخته می شود با تغییر در شرایط، قابل تغییر و تعدیل بوده و </a:t>
            </a:r>
            <a:r>
              <a:rPr b="1" lang="ar-SA" sz="2800" spc="-1" strike="noStrike">
                <a:solidFill>
                  <a:srgbClr val="cc3300"/>
                </a:solidFill>
                <a:latin typeface="Arial"/>
              </a:rPr>
              <a:t>مشاهده گرهای مختلف قادرند واقعیات را کشف، و به روشی مشابه هم، آن را توصیف نماین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ر این روش با وجود اینکه محقق توصیفات غنی از شرایط و موقعیت ها می نماید، اما همچنان سعی دارد خود را </a:t>
            </a:r>
            <a:r>
              <a:rPr b="1" i="1" lang="ar-SA" sz="2800" spc="-1" strike="noStrike">
                <a:solidFill>
                  <a:srgbClr val="cc3300"/>
                </a:solidFill>
                <a:latin typeface="Arial"/>
              </a:rPr>
              <a:t>بیرون از تجربه مورد تحقیق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قرار ده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Characteristics of Grounded Theor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tudying a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ated to a substantiv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ampling theoretic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volving the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multaneous and sequential coll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nalysi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onstantly comparing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an emerging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41536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Generate a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middle-range theory—applicable to a substantive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rand theory (i.e., applicable everywhere to everyone such as the Theory of Rela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“minor working hypothesis” (i.e., applicable to a single classroom or scho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tical propositions—statements indicating the relations among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7391520" y="2666880"/>
            <a:ext cx="761760" cy="3505320"/>
          </a:xfrm>
          <a:prstGeom prst="upArrow">
            <a:avLst>
              <a:gd name="adj1" fmla="val 50000"/>
              <a:gd name="adj2" fmla="val 11504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Zig-Zag Data Collection and Analysis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chieve Saturation of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03720" y="171756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175720" y="175248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275480" y="2529000"/>
            <a:ext cx="219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e to Satu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355760" y="344340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1371600" y="425124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1371600" y="516564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43828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2796480" y="3915360"/>
            <a:ext cx="1958760" cy="75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028120" y="310824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 R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951800" y="41752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952880" y="5241960"/>
            <a:ext cx="14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3067200" y="2985480"/>
            <a:ext cx="2018880" cy="50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24920" y="3475800"/>
            <a:ext cx="2275200" cy="43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V="1">
            <a:off x="2740320" y="4650840"/>
            <a:ext cx="1985400" cy="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2693160" y="4620960"/>
            <a:ext cx="1794240" cy="99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2511720" y="5632200"/>
            <a:ext cx="198684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3809880" y="24382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6843240" y="3774960"/>
            <a:ext cx="19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To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Satur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nstant Comparis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ocedures in Grounded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525320" y="160020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769000" y="160020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tegor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965040" y="278460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329160" y="28195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450800" y="28195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449000" y="4079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96920" y="5299200"/>
            <a:ext cx="36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w Data (e.g. transcrip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eld notes,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0"/>
          <p:cNvSpPr/>
          <p:nvPr/>
        </p:nvSpPr>
        <p:spPr>
          <a:xfrm rot="10800000">
            <a:off x="1905120" y="2742840"/>
            <a:ext cx="2209680" cy="1143000"/>
          </a:xfrm>
          <a:prstGeom prst="pi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1"/>
          <p:cNvSpPr/>
          <p:nvPr/>
        </p:nvSpPr>
        <p:spPr>
          <a:xfrm rot="10800000">
            <a:off x="4572000" y="2742840"/>
            <a:ext cx="2209680" cy="1143000"/>
          </a:xfrm>
          <a:prstGeom prst="pi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2"/>
          <p:cNvSpPr/>
          <p:nvPr/>
        </p:nvSpPr>
        <p:spPr>
          <a:xfrm rot="10744800">
            <a:off x="2514240" y="1218600"/>
            <a:ext cx="3886200" cy="1600200"/>
          </a:xfrm>
          <a:prstGeom prst="pie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1981080" y="4952880"/>
            <a:ext cx="518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198108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289548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380988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457200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533412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624852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7162920" y="4724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21"/>
          <p:cNvSpPr/>
          <p:nvPr/>
        </p:nvSpPr>
        <p:spPr>
          <a:xfrm>
            <a:off x="4267080" y="50292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22"/>
          <p:cNvSpPr/>
          <p:nvPr/>
        </p:nvSpPr>
        <p:spPr>
          <a:xfrm>
            <a:off x="4267080" y="4038480"/>
            <a:ext cx="228600" cy="381240"/>
          </a:xfrm>
          <a:prstGeom prst="upArrow">
            <a:avLst>
              <a:gd name="adj1" fmla="val 50000"/>
              <a:gd name="adj2" fmla="val 41693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23"/>
          <p:cNvSpPr/>
          <p:nvPr/>
        </p:nvSpPr>
        <p:spPr>
          <a:xfrm>
            <a:off x="4267080" y="320040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1219320" y="3505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219320" y="35053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219320" y="579132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1371600" y="37339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1371600" y="51814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137160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7467480" y="17524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31"/>
          <p:cNvSpPr/>
          <p:nvPr/>
        </p:nvSpPr>
        <p:spPr>
          <a:xfrm flipH="1">
            <a:off x="74674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32"/>
          <p:cNvSpPr/>
          <p:nvPr/>
        </p:nvSpPr>
        <p:spPr>
          <a:xfrm>
            <a:off x="8077320" y="17524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33"/>
          <p:cNvSpPr/>
          <p:nvPr/>
        </p:nvSpPr>
        <p:spPr>
          <a:xfrm flipH="1">
            <a:off x="7314840" y="48769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4"/>
          <p:cNvSpPr/>
          <p:nvPr/>
        </p:nvSpPr>
        <p:spPr>
          <a:xfrm flipH="1">
            <a:off x="7314840" y="1981080"/>
            <a:ext cx="60948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5"/>
          <p:cNvSpPr/>
          <p:nvPr/>
        </p:nvSpPr>
        <p:spPr>
          <a:xfrm>
            <a:off x="7924680" y="1981080"/>
            <a:ext cx="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36"/>
          <p:cNvSpPr/>
          <p:nvPr/>
        </p:nvSpPr>
        <p:spPr>
          <a:xfrm flipH="1">
            <a:off x="8077320" y="1828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37"/>
          <p:cNvSpPr/>
          <p:nvPr/>
        </p:nvSpPr>
        <p:spPr>
          <a:xfrm flipH="1">
            <a:off x="6933960" y="56386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38"/>
          <p:cNvSpPr/>
          <p:nvPr/>
        </p:nvSpPr>
        <p:spPr>
          <a:xfrm>
            <a:off x="8534520" y="18288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9"/>
          <p:cNvSpPr/>
          <p:nvPr/>
        </p:nvSpPr>
        <p:spPr>
          <a:xfrm rot="16976400">
            <a:off x="6022800" y="5143680"/>
            <a:ext cx="990720" cy="609480"/>
          </a:xfrm>
          <a:custGeom>
            <a:avLst/>
            <a:gdLst>
              <a:gd name="textAreaLeft" fmla="*/ 173160 w 990720"/>
              <a:gd name="textAreaRight" fmla="*/ 718200 w 990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  <a:ea typeface="Za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9152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Zar"/>
              </a:rPr>
              <a:t>هدف از گراندد تئوري بررسي عميق اعمال باليني،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Zar"/>
              </a:rPr>
              <a:t>رفتارها، عقايد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Zar"/>
              </a:rPr>
              <a:t> طرز فكر افراد و گروهها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Zar"/>
              </a:rPr>
              <a:t> به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Zar"/>
              </a:rPr>
              <a:t>همان نحوي است كه در زندگي واقعي انان رخ مي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Zar"/>
              </a:rPr>
              <a:t>دهد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Zar"/>
              </a:rPr>
              <a:t>،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Zar"/>
              </a:rPr>
              <a:t> به گونه اي كه به روشن سازي فرايندهاي اجتماعي در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Zar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Zar"/>
              </a:rPr>
              <a:t>آن عرصه منجر شود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tical samp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The process of data generation that requires the researcher </a:t>
            </a:r>
            <a:r>
              <a:rPr b="1" lang="en-US" sz="2400" spc="-1" strike="noStrike">
                <a:solidFill>
                  <a:srgbClr val="990000"/>
                </a:solidFill>
                <a:latin typeface="Berlin Sans FB"/>
              </a:rPr>
              <a:t>simultaneously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erlin Sans FB"/>
              </a:rPr>
              <a:t>collects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erlin Sans FB"/>
              </a:rPr>
              <a:t>codes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erlin Sans FB"/>
              </a:rPr>
              <a:t>analyzed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sample size is determined by generated and analyzed data until saturation of </a:t>
            </a:r>
            <a:r>
              <a:rPr b="1" lang="en-US" sz="2400" spc="-1" strike="noStrike">
                <a:solidFill>
                  <a:srgbClr val="990000"/>
                </a:solidFill>
                <a:latin typeface="Berlin Sans FB"/>
              </a:rPr>
              <a:t>conceptual information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and no new codes em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participant must be selected based on their experience with the </a:t>
            </a:r>
            <a:r>
              <a:rPr b="1" lang="en-US" sz="2400" spc="-1" strike="noStrike">
                <a:solidFill>
                  <a:srgbClr val="990000"/>
                </a:solidFill>
                <a:latin typeface="Berlin Sans FB"/>
              </a:rPr>
              <a:t>social process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under investig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Berlin Sans FB"/>
              </a:rPr>
              <a:t>Theoretical sampling in leading to </a:t>
            </a:r>
            <a:r>
              <a:rPr b="1" lang="en-GB" sz="2400" spc="-1" strike="noStrike">
                <a:solidFill>
                  <a:srgbClr val="ff6600"/>
                </a:solidFill>
                <a:latin typeface="Berlin Sans FB"/>
              </a:rPr>
              <a:t>generaliz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saturation </a:t>
            </a: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as the key to knowing when to sto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var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nterrelated concep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hypotheses that emerge during data ana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element of the theory ,which illuminates the main theme of the actors in the setting, and explicated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hat is going on in the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(glaser, 197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foundational concep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or theory generation and the integration and density  of the theory are depenent on the discovery of a significant cor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Core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در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اطلاعات مرتب تكرار ميش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داده هاي مختلف را ارتباط مي ده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چون اصلي و مركزي است پراكندگي هاي موجود در اطلاعات را توضيح ميده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بر يك  تئوري كلي تر يا رسمي تر دلالت دار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با تفصيل بيشترآن تئوري به جلو حركت مي ك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Zar"/>
              </a:rPr>
              <a:t>امكان حداكثر تغيير و تحليل را فراهم ميك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psychosocial processes (BS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Grounded theory explores basic social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499"/>
              </a:spcBef>
              <a:buClr>
                <a:srgbClr val="99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Berlin Sans FB"/>
              </a:rPr>
              <a:t>core variables</a:t>
            </a: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 that  illustrate </a:t>
            </a:r>
            <a:r>
              <a:rPr b="1" lang="en-US" sz="2800" spc="-1" strike="noStrike">
                <a:solidFill>
                  <a:srgbClr val="990000"/>
                </a:solidFill>
                <a:latin typeface="Berlin Sans FB"/>
              </a:rPr>
              <a:t>the social processes</a:t>
            </a: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  as they continue over time ,regardless of varying conditions</a:t>
            </a:r>
            <a:r>
              <a:rPr b="1" lang="en-US" sz="2000" spc="-1" strike="noStrike">
                <a:solidFill>
                  <a:srgbClr val="000000"/>
                </a:solidFill>
                <a:latin typeface="Berlin Sans FB"/>
              </a:rPr>
              <a:t>. (glaser, 197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"/>
              </a:rPr>
              <a:t>Develop explanation of key social process or structures that are derived from grounded in empi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686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se m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tes the researcher writes throughout the process that elaborate on ideas about the data &amp; categ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oretical memoing is "the core stage of grounded theory methodolog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mos are the theorizing write-up of ideas about substantive codes and their theoretically coded relationships as they emerge during coding, collecting and analyzing data, and during memoing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oretical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bility to respond to the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nuances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of, and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cues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to,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meaning i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a personal quality of the researcher It indicates an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awareness of the subtleties of meaning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having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insight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, the ability to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give meaning to data,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the capacity to understand, and capability to </a:t>
            </a: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separate the pertinent from that which isn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Berlin Sans FB"/>
                <a:ea typeface="Times New Roman"/>
              </a:rPr>
              <a:t>Result in Creativity and discovery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 new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ding: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x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CODING : open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CODING : axial cod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CODING : selective 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3399"/>
                </a:solidFill>
                <a:latin typeface="Arial"/>
              </a:rPr>
              <a:t>روشهاي انجام كدگذاري با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Times New Roman"/>
              </a:rPr>
              <a:t>شروع با تجزيه وتحليل سطر به سطر اولين مشاهده يا مصاحبه :                    عبارت به عبارت و حتي كلمه به كلم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كدگذاري جمله ها يا پاراگرافها :                                                             ايده مهمي كه در اين جمله يا پاراگراف نهفته است چيست 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تجزيه و تحليل تمامي نوشته هاي حاصل از  مشاهده يا مصاحبه داده ها را به طور دقيق براي دريافت تفاوتها و مشابهت ها تجزيه وتحليل كني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Axial 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cess of relating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catego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ir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subcatego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ermed  “axial” because coding occures around the axis of a categoriy  linking categories at the level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per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m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use of the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constant compara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ethod in treatment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ers code the data ,compare them with the other data &amp; assign the data to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clus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categor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ording to obvious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LEVEL 3 CODING</a:t>
            </a:r>
            <a:br>
              <a:rPr sz="3200"/>
            </a:b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describe B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suggested by Glaser &amp; strauss to describe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BSP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going on in the dat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focus of the study &amp; the relationship of the data to the stu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the problem that is being deal with by the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processes are helping the participants cope with the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79200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otes a set of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ell-developed catego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.g., themes, concepts) that are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ystematically interrel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rough statements of relationship to form a theoretical framework that explains some relevant social, psychological, educational, nursing, or other phenomen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Arial"/>
              </a:rPr>
              <a:t>كد گذاري محوري همان داده هاي خرد و ريز شده در كدگذاري باز را دوباره با ايجاد روابط بين هر مقوله و مقولات فرعي آن به نوعي جديد به يكديگرمرتبط مي ساز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Concept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47880"/>
            <a:ext cx="713916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steps defined the emerging  the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 sampling of the lit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ive sampling of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9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ring data analysis an overwhelming number of categories emerge that  need to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tegory reduction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s essential determining primary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social processe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cor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aring categories allowes to see how they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cluste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ff3399"/>
                </a:solidFill>
                <a:latin typeface="Arial"/>
              </a:rPr>
              <a:t>conec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under another broader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result of reduction is a clustering of categories that when combined form a category of broader sc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Selective sampling of the lit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847880"/>
            <a:ext cx="685152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res simultaneously with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 researcher become familiar with works &amp; fills in the missing pieces in the emerging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Selective sampling of th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91880"/>
            <a:ext cx="67788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Selective sampling 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satur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categories occu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with the datas determines under which conditions they occure &amp; if the concepts seem cent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Negar 0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ments of relationship explain who, what, when, where, why, how, and with what consequences an event occurs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more than a set of findings; it offers an explanation about phenomen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821844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محقق هیچگاه كار خود را با يك تئوري آغاز نمي كند، بلكه با مطالعه در عرصه، کار شروع شده و اجازه مي دهد موارد مربوط به آن عرصه خود را نشان ده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طلاعات بدست آمده از داده ها تعيين مي كن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چه چيزي را بايد در تحقيق جستجو نمود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چه مطالعاتي باید مرور شون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چه سوالاتي باید در تحقيق مطرح شوند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spcBef>
                <a:spcPts val="9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تعداد مشاركت كنندگان در تحقيق چقدر باشد؟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پنج تفاوت عمده  گراندد تئوري با ساير روشهاي تحقيق كيفي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چارچوب مفهومي گراندد تئوري بر گرفته از داده های فعلي بوده و از مطالعات قبلي بدست نمی آ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حقق بجاي توصيف واحد تحت مطالعه، سعي دركشف فرآيند هاي اصلي مربوط به عرصه اجتماعي را دا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حقق بطور مداوم هر داده را با ساير داده ها مقايسه مي نما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حقق ممكن است همزمان با پيشرفت نظريه، روشهاي جمع آوري داده ها را تغيير و در صورت لزوم سوالات ژرفكاوانه تري را مطرح نما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حقق همزمان با جمع آوري داده ها آ نها را بررسي، كدگذاري و طبقه بندي نموده و از همان آغاز شروع به نوشتن افكار اوليه خود در مورد تحقيق مي نمايد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ry of Grounded Theory Des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The Glaser and Strauss approach (1967), which has been expanded by glaser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The strauss and corbin approach (1990,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The approaches share common characteristics but differ in their philosophical underpin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The common elements: theoretical sensitivity, theoretical sampling, constant comparative analysis, coding and categorizing data, literature as a data source, integration of theory and theoretical mem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hoice between glaserian  and strau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435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las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the topic without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recon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ave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research inter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her than a research problem and  arise it naturally during pro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it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be integrated into th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eveloping con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created by emerging from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will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merged natur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engaging researcher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priate for experienced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4720" y="1196640"/>
            <a:ext cx="4402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trau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a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henomenon at the begi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literature review for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ing the analytic techniques and providing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ory as a construct co-created by the researcher and the particip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T is generaliz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theory from axial co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for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8T19:04:57Z</dcterms:created>
  <dc:creator>taleghani</dc:creator>
  <dc:description/>
  <dc:language>en-US</dc:language>
  <cp:lastModifiedBy>drtaleghani</cp:lastModifiedBy>
  <dcterms:modified xsi:type="dcterms:W3CDTF">2011-12-17T07:18:14Z</dcterms:modified>
  <cp:revision>36</cp:revision>
  <dc:subject/>
  <dc:title>Grounded Theory</dc:title>
</cp:coreProperties>
</file>